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1C7-0F28-4C0E-ABC1-E9F98CDC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918-7BFD-4C02-8297-C28D703E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C13-F30B-4949-B24A-88D149BB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FB2-2AB9-46C7-A19E-CA27D352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492D-465B-42BC-B8AA-DE907BE6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C356-7360-4FBA-9011-B3853608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CFD9-412B-4349-85F8-9ADCCE5E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9C23-374E-4ECA-8E12-98CE724F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93A0-F933-4622-826B-3E80B56B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1652-DF10-4FD4-B9CC-274D8FEF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AF8C-3F74-44D7-B476-A587C1BE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976-44D8-4471-A7DB-CEF4257B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81F2-F1AA-4315-9CC7-F3E178A3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E1D9-8952-4E06-8DA5-065A3BD8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C9D4-81A3-4A4A-901B-FD81B7EC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6B8C-CD89-4EF1-9D42-F05F0499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4CB0-0819-458E-83BE-B662D217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2A8-8CBB-4FB2-A8A4-34C674C6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0AA-8886-4475-8697-18D4BCBC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417-1269-4128-AC6A-09224C3B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443-ADEB-4B44-8D43-D9702787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76E-1B26-461B-A0F2-3220EA47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9D8B-94E4-46FF-B813-DD565079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51A-8E00-46CF-B2A1-F69C3FD8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98F4-AF8A-4F8B-8ABB-53FC5E9214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5D3D-A775-4399-A5CB-A200FD2E74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sgram.narod.ru/" TargetMode="External"/><Relationship Id="rId3" Type="http://schemas.openxmlformats.org/officeDocument/2006/relationships/hyperlink" Target="http://www.orfo.ru/" TargetMode="External"/><Relationship Id="rId4" Type="http://schemas.openxmlformats.org/officeDocument/2006/relationships/hyperlink" Target="http://www.orfo.ru/" TargetMode="External"/><Relationship Id="rId5" Type="http://schemas.openxmlformats.org/officeDocument/2006/relationships/hyperlink" Target="http://www.hi-edu.ru/" TargetMode="External"/><Relationship Id="rId6" Type="http://schemas.openxmlformats.org/officeDocument/2006/relationships/hyperlink" Target="http://www.hi-edu.ru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9920"/>
            <a:ext cx="77724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СЛОЖНОЕ  ПРЕДЛОЖЕН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Выполнила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долинская Тан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342 груп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astellar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Сравните предлож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 из-за сильного дождя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, потому что шел сильный дождь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0" y="5562720"/>
            <a:ext cx="399096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В чем их различи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ОСНОВОПОЛАГАЮЩИЙ  ВОПРОС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2544480"/>
            <a:ext cx="8001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БЫТЬ  ГРАМОТНЫМ –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                </a:t>
            </a: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ЭТО  ПРОСТО?!..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ПРОБЛЕМНЫЕ  ВОПРО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ими  бывают  предложен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овы различия между вид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й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Одинаковы ли правила пунктуации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ях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8600" y="422280"/>
            <a:ext cx="7986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Этапы проведения проект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2255760"/>
            <a:ext cx="80010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1) Выбор и формулировка тем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2) Поиск информ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3) Самостоятельная работа учащихс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4) Защита проек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Как будут представлены результат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stellar"/>
              </a:rPr>
              <a:t>Эсс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stellar"/>
              </a:rPr>
              <a:t>Творческие презент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stellar"/>
              </a:rPr>
              <a:t>Букле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Информационные  ресурс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Учебники по русскому языку (9 кл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Сай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2"/>
              </a:rPr>
              <a:t>http://rusgram.narod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4"/>
              </a:rPr>
              <a:t>://www.orfo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6"/>
              </a:rPr>
              <a:t>://www.hi-edu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5:27:4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